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099D-5A6B-4099-8E94-1A0D5ECD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966-0F20-40D6-B9B9-CA648348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9F8E-7846-49F0-BBEA-D3F22F5A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7054-5AD8-4368-A80D-442E66A2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5E20-ECDC-4C00-9C9E-71D1C2C0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125-90D8-4DCD-A94D-6C785E11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3D3-2588-4104-AE1E-A42C6C19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834E-675E-4EBF-B550-447678B6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D066-65A0-466A-85D1-F459E615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B7F0-8D41-4CAB-8196-E08F287C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319F-A78A-4888-8085-040E58A9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75F4-6166-4C8D-98DC-EF9077C7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D87C-B2F0-478E-B68D-EE200599ED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4894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979640" y="3500280"/>
            <a:ext cx="48942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050920" y="4724280"/>
            <a:ext cx="48945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24000" y="692280"/>
            <a:ext cx="860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:\Users\Игорь\Desktop\127322443_17_01.jpg"/>
          <p:cNvPicPr/>
          <p:nvPr/>
        </p:nvPicPr>
        <p:blipFill>
          <a:blip r:embed="rId1"/>
          <a:stretch/>
        </p:blipFill>
        <p:spPr>
          <a:xfrm>
            <a:off x="884160" y="571680"/>
            <a:ext cx="7497720" cy="562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280" y="4941720"/>
            <a:ext cx="80758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ануне Крещения, вечером 18 января,  все православные отмечаю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щенский Сочельник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гий пост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195938suc"/>
          <p:cNvPicPr/>
          <p:nvPr/>
        </p:nvPicPr>
        <p:blipFill>
          <a:blip r:embed="rId1"/>
          <a:stretch/>
        </p:blipFill>
        <p:spPr>
          <a:xfrm>
            <a:off x="1692360" y="981000"/>
            <a:ext cx="5770440" cy="3635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548720" y="260280"/>
            <a:ext cx="60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анчиваются Рождественские свят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ещение Господ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дин из 12 главных христианских праздников, отмечают 19 январ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богоявление икона"/>
          <p:cNvPicPr/>
          <p:nvPr/>
        </p:nvPicPr>
        <p:blipFill>
          <a:blip r:embed="rId1"/>
          <a:stretch/>
        </p:blipFill>
        <p:spPr>
          <a:xfrm>
            <a:off x="755640" y="1341360"/>
            <a:ext cx="7615080" cy="53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4360" y="188640"/>
            <a:ext cx="757224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ый обычай самого дня Богоявления – торжественное освящение в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image_826810378845994802073540298056939621"/>
          <p:cNvPicPr/>
          <p:nvPr/>
        </p:nvPicPr>
        <p:blipFill>
          <a:blip r:embed="rId1"/>
          <a:stretch/>
        </p:blipFill>
        <p:spPr>
          <a:xfrm>
            <a:off x="1692360" y="1413000"/>
            <a:ext cx="5759280" cy="4319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1621800" y="5940360"/>
            <a:ext cx="601776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народным поверьям - в этот день крещеным бы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ю жизнь счастливо прож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00200" y="1752480"/>
            <a:ext cx="320040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4495320"/>
            <a:ext cx="784872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ентацию подгото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.руководитель Митрофанова Е.И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ДОУ «Детский сад №5 «Солнечны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https://i.mycdn.me/image?id=851386026717&amp;t=3&amp;plc=WEB&amp;tkn=*t5gqLvV2xwVPkDfxIDfNLYf3qlM"/>
          <p:cNvPicPr/>
          <p:nvPr/>
        </p:nvPicPr>
        <p:blipFill>
          <a:blip r:embed="rId1">
            <a:lum contrast="20000"/>
          </a:blip>
          <a:srcRect l="6957" t="9937" r="0" b="2173"/>
          <a:stretch/>
        </p:blipFill>
        <p:spPr>
          <a:xfrm>
            <a:off x="380880" y="1143000"/>
            <a:ext cx="3957840" cy="2803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5791320" y="533520"/>
            <a:ext cx="2284200" cy="2270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image (6)"/>
          <p:cNvPicPr/>
          <p:nvPr/>
        </p:nvPicPr>
        <p:blipFill>
          <a:blip r:embed="rId3"/>
          <a:stretch/>
        </p:blipFill>
        <p:spPr>
          <a:xfrm>
            <a:off x="5638680" y="3200400"/>
            <a:ext cx="3035520" cy="20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640" y="5445000"/>
            <a:ext cx="792000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  Рождества (7 января) по Крещение (19 января) на Руси  праздновались Свя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5167771_lys7"/>
          <p:cNvPicPr/>
          <p:nvPr/>
        </p:nvPicPr>
        <p:blipFill>
          <a:blip r:embed="rId1"/>
          <a:stretch/>
        </p:blipFill>
        <p:spPr>
          <a:xfrm>
            <a:off x="1403280" y="549360"/>
            <a:ext cx="640260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4920" y="551628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ждества Христ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чинается с наведения идеального порядка в дом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0_19669_f3c0bf75_XL"/>
          <p:cNvPicPr/>
          <p:nvPr/>
        </p:nvPicPr>
        <p:blipFill>
          <a:blip r:embed="rId1"/>
          <a:stretch/>
        </p:blipFill>
        <p:spPr>
          <a:xfrm>
            <a:off x="1476360" y="549360"/>
            <a:ext cx="6257880" cy="46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8920" y="5229000"/>
            <a:ext cx="8363160" cy="14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ждество - детский праздник, потому что  центр праздника - родившийся младенец Иис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untitled"/>
          <p:cNvPicPr/>
          <p:nvPr/>
        </p:nvPicPr>
        <p:blipFill>
          <a:blip r:embed="rId1"/>
          <a:stretch/>
        </p:blipFill>
        <p:spPr>
          <a:xfrm>
            <a:off x="1619280" y="620640"/>
            <a:ext cx="6024600" cy="4303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f_19090693"/>
          <p:cNvPicPr/>
          <p:nvPr/>
        </p:nvPicPr>
        <p:blipFill>
          <a:blip r:embed="rId2"/>
          <a:stretch/>
        </p:blipFill>
        <p:spPr>
          <a:xfrm>
            <a:off x="1116000" y="620640"/>
            <a:ext cx="6985080" cy="435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4797360"/>
            <a:ext cx="864072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нно с этого великого праздника и начинаются Святки. В Святочные вечера на Руси устраивались праздничные гуляния с весёлыми песнями и пляск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B09F738676A3"/>
          <p:cNvPicPr/>
          <p:nvPr/>
        </p:nvPicPr>
        <p:blipFill>
          <a:blip r:embed="rId1"/>
          <a:stretch/>
        </p:blipFill>
        <p:spPr>
          <a:xfrm>
            <a:off x="2514600" y="152280"/>
            <a:ext cx="4154400" cy="47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хорошее настроение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ите от нас угоще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5300280"/>
            <a:ext cx="8362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ятки ещё называли колядками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 популярных угощений – это 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яд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– маленькие печеные изделия из пресного ржаного теста с различными начинками и припе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&amp;_65533"/>
          <p:cNvPicPr/>
          <p:nvPr/>
        </p:nvPicPr>
        <p:blipFill>
          <a:blip r:embed="rId1"/>
          <a:stretch/>
        </p:blipFill>
        <p:spPr>
          <a:xfrm>
            <a:off x="2484360" y="1341360"/>
            <a:ext cx="43023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4941360"/>
            <a:ext cx="835344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«святочное время» с 7 по 19 января пелись на Рус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яд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бычай «кликать коляду» был известен по всей Руси: под окнами каждого дома пелись колядки с пожеланиями хозяйственного благополучия. Все с нетерпением ждали прихода ряженных с их колядками. Люди верили, что к кому они зайдут –тот двор в новом году удачлив будет, с достатком и прибыл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195959iyc"/>
          <p:cNvPicPr/>
          <p:nvPr/>
        </p:nvPicPr>
        <p:blipFill>
          <a:blip r:embed="rId1"/>
          <a:stretch/>
        </p:blipFill>
        <p:spPr>
          <a:xfrm>
            <a:off x="1403280" y="333360"/>
            <a:ext cx="639936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3280" y="1844640"/>
            <a:ext cx="3961080" cy="38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 в крещенский вечеро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ушки гада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ворота башмачо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яв с ноги, броса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ег пололи; под окн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шали; кормил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етным курицу зерно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ый воск топил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8289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дали раньше во все дни святок, но главный вечер для предсказаний был в Крещень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гадающая светлана П"/>
          <p:cNvPicPr/>
          <p:nvPr/>
        </p:nvPicPr>
        <p:blipFill>
          <a:blip r:embed="rId1"/>
          <a:stretch/>
        </p:blipFill>
        <p:spPr>
          <a:xfrm>
            <a:off x="684360" y="1268280"/>
            <a:ext cx="4113000" cy="503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дания на святки были не только на женихов и невест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и другие, более хозяйственные проблемы: о будущем урожае, приплоде скот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3860280"/>
            <a:ext cx="8435880" cy="26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й маленькой корзинке что угодно для души. Кому вынется, тому сбудется, скоро сбудется, не минуе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НТА – К долгой, счастливой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ГОВИЦА – Жить в большой сем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НЕТА – К богат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ОШКА – Ждёт большое счаст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ВОЗДЬ – На пороге г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d0d296c9eb99"/>
          <p:cNvPicPr/>
          <p:nvPr/>
        </p:nvPicPr>
        <p:blipFill>
          <a:blip r:embed="rId1"/>
          <a:stretch/>
        </p:blipFill>
        <p:spPr>
          <a:xfrm>
            <a:off x="611280" y="1268280"/>
            <a:ext cx="1939680" cy="2586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bdc2ff9a7b8b"/>
          <p:cNvPicPr/>
          <p:nvPr/>
        </p:nvPicPr>
        <p:blipFill>
          <a:blip r:embed="rId2"/>
          <a:stretch/>
        </p:blipFill>
        <p:spPr>
          <a:xfrm>
            <a:off x="2916360" y="1628640"/>
            <a:ext cx="5068800" cy="39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23095d7e31fb"/>
          <p:cNvPicPr/>
          <p:nvPr/>
        </p:nvPicPr>
        <p:blipFill>
          <a:blip r:embed="rId3"/>
          <a:stretch/>
        </p:blipFill>
        <p:spPr>
          <a:xfrm rot="3247200">
            <a:off x="2772720" y="2275560"/>
            <a:ext cx="1314360" cy="131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439007b01f2b"/>
          <p:cNvPicPr/>
          <p:nvPr/>
        </p:nvPicPr>
        <p:blipFill>
          <a:blip r:embed="rId4"/>
          <a:stretch/>
        </p:blipFill>
        <p:spPr>
          <a:xfrm>
            <a:off x="4572000" y="2205000"/>
            <a:ext cx="1300320" cy="1509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08188272843a"/>
          <p:cNvPicPr/>
          <p:nvPr/>
        </p:nvPicPr>
        <p:blipFill>
          <a:blip r:embed="rId5"/>
          <a:stretch/>
        </p:blipFill>
        <p:spPr>
          <a:xfrm>
            <a:off x="6156360" y="2133720"/>
            <a:ext cx="1684440" cy="1492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a8ed176cde4c"/>
          <p:cNvPicPr/>
          <p:nvPr/>
        </p:nvPicPr>
        <p:blipFill>
          <a:blip r:embed="rId6"/>
          <a:stretch/>
        </p:blipFill>
        <p:spPr>
          <a:xfrm rot="17637600">
            <a:off x="7223760" y="2721240"/>
            <a:ext cx="1692360" cy="3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iraffeek17</dc:creator>
  <dc:description/>
  <dc:language>en-US</dc:language>
  <cp:lastModifiedBy>Игорь Митрофанов</cp:lastModifiedBy>
  <dcterms:modified xsi:type="dcterms:W3CDTF">2017-02-14T15:50:0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